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89D-AF19-4A46-A71B-B37D4757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A5E-96E3-46AA-AD7E-9A1A1AC9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83A-AF75-4D66-918F-C20E630C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2EF-310E-4054-AB89-09FCF46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B7521-5636-4F14-9627-BAFD0095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44704-E83A-4C54-A5F3-477F857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79B63-F087-4DE4-B5A5-3E4057CA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9969-AC80-41B6-AB39-578972A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92C68-0313-4A83-9FBB-EB5E9130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9B6A-14D4-4236-8990-6D205B5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4E78-5FDD-4435-971E-D9E6F3C2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93D-1A64-442A-9034-5BD6ED82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17B0-3AE7-4145-A528-4A697E49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F5057-3E38-4EDD-9F53-C70926B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B3804-7391-4E04-B467-299A03D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33D2-A02F-46FD-BAF9-AD076069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DC93D-D173-4EB8-AC4F-B386AAC9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1906-12A0-4B39-9954-4B834FB0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6CB4-989D-4343-905D-7DFF6F3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1CC2-E706-4BAD-AE87-DB9394D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6AB7-4B8E-41C2-9A51-F6CEA251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3078-1050-4C30-AD2A-53D488C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443-0AB9-4B84-A8A8-F6E0D047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6062-37FB-4FA9-8BC0-8009A98A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D2C7-721B-4745-8220-98EA3A5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6822-C6A1-4046-BA80-B793CC1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AA56-A335-4DE6-B368-E38B08FC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0DB9-679F-4D21-A0F5-84924650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01E3-2AB8-418B-B0F8-8111EDCD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65CB-6416-4145-B96F-50799949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5EB8D-FE1B-4B41-B7EE-82F1C887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986CA-9E76-487B-B605-8260143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30EEF6-BD63-42E6-85F9-33B4C7F5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A8B-6654-43C4-B1C3-534F2AE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64BAB-1A47-4AD5-B4B4-BD6F646A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C64FD9-4EE9-4366-9ECF-B1491113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417BC-0F3C-4AA3-917C-746B4B3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BAD06-CC87-4657-A73C-5DA15C2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CC1EC-88F3-4C64-94C2-E0F72CB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CB281-1B24-4659-8399-91F0733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87D79-E62B-4F7E-ACFD-739DFE2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F05D7-6B15-45B6-AA74-B19713B4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7FF80-987A-4AA0-8A15-1250FD51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D62-10E6-4D9E-A526-C9F1AAE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107-2A7D-4D00-B7D6-6065727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8F8-8390-46DF-9B81-1626E83A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6E1-B947-4BC0-AD3B-F164C07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CBB-23A5-403A-A53B-2DC1FCD3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4A95-E193-4964-B40A-FEF7D158DB25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gyenes összekötő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Egyenes összekötő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F52D-3491-49E2-9C57-524C072257D4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gyenes összekötő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DEDA-3F60-4A5A-A434-2D5489F140D9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gyenes összekötő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Egyenes összekötő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A299-041A-40A5-80DB-A1E4B614FF15}" type="slidenum">
              <a:rPr b="0" lang="hu-H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efac9"/>
                </a:solidFill>
                <a:latin typeface="Constantia"/>
              </a:rPr>
              <a:t>A Merkúr hadművele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Cím 1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77850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3780000" y="2708280"/>
            <a:ext cx="4375080" cy="3035160"/>
          </a:xfrm>
          <a:prstGeom prst="rect">
            <a:avLst/>
          </a:prstGeom>
          <a:ln w="0">
            <a:noFill/>
          </a:ln>
        </p:spPr>
      </p:pic>
      <p:sp>
        <p:nvSpPr>
          <p:cNvPr id="174" name="Szövegdoboz 5"/>
          <p:cNvSpPr/>
          <p:nvPr/>
        </p:nvSpPr>
        <p:spPr>
          <a:xfrm>
            <a:off x="716400" y="1341360"/>
            <a:ext cx="68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1940.</a:t>
            </a: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 október 28-án Olaszország megtámadta Görögország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zövegdoboz 6"/>
          <p:cNvSpPr/>
          <p:nvPr/>
        </p:nvSpPr>
        <p:spPr>
          <a:xfrm>
            <a:off x="567360" y="1700280"/>
            <a:ext cx="85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harc </a:t>
            </a: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1941. </a:t>
            </a: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április 23-áig tartott, amikor is az olasz támadást visszaverték a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ök, brit segítségg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zövegdoboz 7"/>
          <p:cNvSpPr/>
          <p:nvPr/>
        </p:nvSpPr>
        <p:spPr>
          <a:xfrm>
            <a:off x="889920" y="2781360"/>
            <a:ext cx="29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Ezt követően a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szövetségesek teljes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országot, beleértve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Krétát, megszálltá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zövegdoboz 8"/>
          <p:cNvSpPr/>
          <p:nvPr/>
        </p:nvSpPr>
        <p:spPr>
          <a:xfrm>
            <a:off x="3694680" y="602136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Görög katonák, harckészültség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német főparancsnokság már a Barbarossa hadműveletet tervezte, amikor szóba került egy esetleges megszálló-hadművel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Lévén, hogy a Wehrmacht földi része, azaz a Heer szovjet területre lesz mozgósítva, a parancsnokság fejében felmerült egy ötlet, hogy Kréta szigetének megszállását a német légierő, vagyis a Luftwaffe vezesse. Hitlernek tetszett a gondola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hadművelet </a:t>
            </a: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1941.</a:t>
            </a: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 május 20-án kezdődöt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z inváziót egy sorozatos légitámadás előzte meg, hogy megszerezzék a légi fölényt. Ez sikerült is, viszont a szövetségesek továbbra is birtokában voltak a tengerészeti fölénynek. Ezért is tűnt okosabbnak a légi egységek bevetés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Luftwaffe két főegységet vetett b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Fallschrimjägert (jelentése: Ejtőernyős vadász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És a Gebirgsjägert (jelentése Hegyivadász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A katonák kétféleképpen érték el a területeket, ejtőernyővel, illetve vitorlázógépekkel. </a:t>
            </a:r>
            <a:br>
              <a:rPr sz="2600"/>
            </a:br>
            <a:r>
              <a:rPr b="0" lang="hu-H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219640" y="3789360"/>
            <a:ext cx="3667320" cy="2446200"/>
          </a:xfrm>
          <a:prstGeom prst="rect">
            <a:avLst/>
          </a:prstGeom>
          <a:ln w="0">
            <a:noFill/>
          </a:ln>
        </p:spPr>
      </p:pic>
      <p:sp>
        <p:nvSpPr>
          <p:cNvPr id="183" name="Szövegdoboz 4"/>
          <p:cNvSpPr/>
          <p:nvPr/>
        </p:nvSpPr>
        <p:spPr>
          <a:xfrm>
            <a:off x="5502600" y="63086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 Black"/>
              </a:rPr>
              <a:t>DFS 230 vitorláz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zövegdoboz 5"/>
          <p:cNvSpPr/>
          <p:nvPr/>
        </p:nvSpPr>
        <p:spPr>
          <a:xfrm>
            <a:off x="214560" y="436572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német egységek száma körülbelül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30.000 fő lehet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646360"/>
          </a:xfrm>
          <a:prstGeom prst="rect">
            <a:avLst/>
          </a:prstGeom>
          <a:ln w="0">
            <a:noFill/>
          </a:ln>
        </p:spPr>
      </p:pic>
      <p:sp>
        <p:nvSpPr>
          <p:cNvPr id="186" name="Szövegdoboz 4"/>
          <p:cNvSpPr/>
          <p:nvPr/>
        </p:nvSpPr>
        <p:spPr>
          <a:xfrm>
            <a:off x="5303520" y="404640"/>
            <a:ext cx="29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Fallschrimjäger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4752720" cy="3325680"/>
          </a:xfrm>
          <a:prstGeom prst="rect">
            <a:avLst/>
          </a:prstGeom>
          <a:ln w="0">
            <a:noFill/>
          </a:ln>
        </p:spPr>
      </p:pic>
      <p:sp>
        <p:nvSpPr>
          <p:cNvPr id="188" name="Szövegdoboz 6"/>
          <p:cNvSpPr/>
          <p:nvPr/>
        </p:nvSpPr>
        <p:spPr>
          <a:xfrm>
            <a:off x="348120" y="3429000"/>
            <a:ext cx="33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Gebirgsjägerek,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repülőbe szállás előtt,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Krétai inváziót megelőző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Brit és görög csapatok voltak Krétán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görögök elavult, első világháborús fegyvereket használtak, melyek kalibere eltért az angol fegyverekétől, ezért nem tudtak nekik lőszert adni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brit csapatok új-zélandi, ausztrál és angol katonákból álltak. Jól fel voltak fegyverezve, emellett légvédelmi ütegeik, illetve tankjaik is voltak.</a:t>
            </a:r>
            <a:br>
              <a:rPr sz="1600"/>
            </a:br>
            <a:r>
              <a:rPr b="0" lang="hu-HU" sz="1600" spc="-1" strike="noStrike">
                <a:solidFill>
                  <a:srgbClr val="ffffff"/>
                </a:solidFill>
                <a:latin typeface="Constantia"/>
              </a:rPr>
              <a:t>A tankok többsége viszont páncéltörő lövedékkel volt felszerelve, mely gyalogság ellen szinte hatástalan volt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248000" cy="2487600"/>
          </a:xfrm>
          <a:prstGeom prst="rect">
            <a:avLst/>
          </a:prstGeom>
          <a:ln w="0">
            <a:noFill/>
          </a:ln>
        </p:spPr>
      </p:pic>
      <p:sp>
        <p:nvSpPr>
          <p:cNvPr id="192" name="Szövegdoboz 4"/>
          <p:cNvSpPr/>
          <p:nvPr/>
        </p:nvSpPr>
        <p:spPr>
          <a:xfrm>
            <a:off x="5321880" y="36450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Brit tábornokok Krétá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zövegdoboz 5"/>
          <p:cNvSpPr/>
          <p:nvPr/>
        </p:nvSpPr>
        <p:spPr>
          <a:xfrm>
            <a:off x="4947840" y="4437000"/>
            <a:ext cx="42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szövetséges erők száma körülbelül 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40.000 főre tehető 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Mindössze 10 napig folytak a harcok, melyek végül német győzelemmel végződtek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Hiába voltak a szövetségesek túlerőben, a német ejtőernyősöket rendkívül jól szerelték fel, és a megfelelő fegyvereknek, illetve kiképzésnek köszönhetően a hadművelet sikeresnek bizonyul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 harcok során mindkét oldalon akadtak bőséges számban hadifoglyok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728880" cy="2316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3311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oldalon nagyjából 7000 fő esett el, vagy került hadifogságba. Körülbelül 400 repülőgépet lőttek le az összesen 1100 darabból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A szövetségesek oldalán 24000 fő a veszteségek száma, ebből 17000 hadifogoly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765600" cy="254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4572000" y="2565360"/>
            <a:ext cx="3960720" cy="2533680"/>
          </a:xfrm>
          <a:prstGeom prst="rect">
            <a:avLst/>
          </a:prstGeom>
          <a:ln w="0">
            <a:noFill/>
          </a:ln>
        </p:spPr>
      </p:pic>
      <p:sp>
        <p:nvSpPr>
          <p:cNvPr id="202" name="Szövegdoboz 5"/>
          <p:cNvSpPr/>
          <p:nvPr/>
        </p:nvSpPr>
        <p:spPr>
          <a:xfrm>
            <a:off x="399240" y="537372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Német katonák hadifogság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zövegdoboz 6"/>
          <p:cNvSpPr/>
          <p:nvPr/>
        </p:nvSpPr>
        <p:spPr>
          <a:xfrm>
            <a:off x="4387320" y="53737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Szövetséges katonák fogságba es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onstantia"/>
              </a:rPr>
              <a:t>Az amerikai, illetve angol csapatok, látván a hadművelet sikerességét elhatározták, hogy hasonló ejtőernyős hadosztályokat létesítenek. E katonák bevetésére került sor a D-Nap során, illetve később, A Market Garden hadművelet alatt (Hollandia felszabadítása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Cím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3462120" cy="326376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4"/>
          <p:cNvSpPr/>
          <p:nvPr/>
        </p:nvSpPr>
        <p:spPr>
          <a:xfrm>
            <a:off x="6121080" y="59500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onstantia"/>
              </a:rPr>
              <a:t>Menekülő brit katoná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3:49:27Z</dcterms:created>
  <dc:creator>Bence</dc:creator>
  <dc:description/>
  <dc:language>en-US</dc:language>
  <cp:lastModifiedBy>Bence</cp:lastModifiedBy>
  <dcterms:modified xsi:type="dcterms:W3CDTF">2012-03-26T00:48:48Z</dcterms:modified>
  <cp:revision>8</cp:revision>
  <dc:subject/>
  <dc:title>A krétai csata</dc:title>
</cp:coreProperties>
</file>